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D07-F22F-42F5-9143-F66CDACD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500-41EC-4228-98A9-2FFB8CD8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ED4CA-5D7E-4DB7-90D2-64D2E39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CB890-E476-4A03-97E7-7C8B9089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E9BD0-E335-40A1-95F5-96FA2BDD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2AB58-E4B4-460E-ABFF-F6958C4F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8B134-7FCE-49C9-9FF6-4BF3454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82672-BFB5-49EF-88D1-91F9D16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3C5B-739D-4B8B-A0AA-5F8002F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39E73-BE71-4AF3-8FAC-46031FEE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556FE-370D-43BC-8D3F-DD9AF328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3C5-6C2A-4A15-862E-08EFA670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167-99AF-4EF1-9BB5-7A76024A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880E-5862-4E66-97B7-6EA32717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5B8D-4A0B-4551-B065-495059BA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7BC3-1205-4AE8-B846-5FD515A2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FAF-B306-4445-8B99-2B9EBA5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BFC7-43E5-490A-850B-D689E058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C4E-B51C-42CF-9C3F-2D79D101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B85-5C63-4FA9-A76E-318066A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D7E-AAC3-498A-A553-44A5144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8E3-240C-4CD7-BD27-87F77ED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CDBF-CBF9-4A44-BB62-ACCF9D4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10A7-FC29-464C-8DEC-60DC182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901F-9120-4FFB-80D9-C5B95513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643-BD1A-438B-82BD-AA05F06A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2EB2-91B0-4F49-8462-C0274ADE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4830-3096-42DA-A32A-9744E03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D0D1-351A-4C16-A8EB-3BF7FA2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1B34-95D9-445A-874E-8E4A896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1D64-7FC4-40B1-8ED4-57434EE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349-1A6A-4AE5-8706-1CDCD221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7942-A1EF-44AB-B95A-40132A20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B3E6-FE7E-4893-8182-31F305F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9718-8F21-4459-B1C2-AEE1279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7754-0F41-4B15-BB7A-5B2BCC5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465E-81CB-48BA-9A5F-BE7718DB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4184-58EE-40FA-B55B-DC808AB5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CA97-F40E-4A97-A42B-28E7C1F4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3D18-6492-428F-BFE2-43AEE653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D04B-9E04-4CC9-974B-241A01C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8AD9-08EE-473A-9102-E2302EC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077-CBC9-4897-B804-5AFECDA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6536-E574-4881-A99C-437F84FB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7723-83A3-4BA5-85F1-2D8CE2CA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B8F4-A9C6-4664-A8CC-F676A8FE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592B-AAC3-44BF-8017-83500C7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9F89-63EF-446F-BCBB-94C819C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53565-944A-47B4-AA24-547C838F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AA9D-C5A5-4507-8B6D-8913A34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584E-0783-4F59-93E5-49C087CF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C40A1-CC4F-4729-BF17-9FACDDE7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908B-862B-4F94-808D-4D9E0C62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D5E-8D6C-44BB-945B-98228CD8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3C62-A1DF-4294-A96A-B0747A75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89B6B-E8AB-461F-873B-7B8A95F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1621-979A-4DCD-BAD9-1457C27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808D-D261-4C98-AFDB-37BAA29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5142-FD7C-48C4-A18C-B95931A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2F75-32E3-4521-A6E5-10AF725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3E12-CBD8-4EF6-B1A8-FF9B839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C1F9C-599D-4FFB-A02C-AC1B2A10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9821-6141-4C3D-A262-D7AB7E0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4E1BA-E865-4651-8546-7C193D25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935-8740-411C-9871-CE8BD80E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31F2-50B2-4A1D-A83C-58186FB4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B2FBC-0C94-4835-A200-35371B27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891A-9680-42FD-9978-2C10A31E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0D20-7019-4B10-8FF9-77D5D883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0EAA-3F84-4CFE-A7FB-2FFE4C4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721C2-FDDE-4D6C-BA42-CDDE028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B042F-D6AB-4BD5-8624-E0CC1C5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A19C-7B68-4B41-B540-7BCC2BE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7DEA-0FFB-49A1-881A-09E723F5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606B9-C820-4A2C-800F-6EDB92A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5A5-7F1D-4C46-AE80-C508B65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E31C-9BA6-4907-A141-9AA8478E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A1D4-E435-4D4B-9462-99F61369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6CFE-EB8C-4857-9B14-8539CFB0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6F6C-5B34-4728-B68D-DC0ADF9C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A3C2-477D-4EFF-A1A4-DB9E0EBF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33D73-80EA-470B-860D-CA7BAEB0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8FE6F-58F3-4CBC-A95E-A1484697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3FF9C-1449-4467-BBF1-E82CE8D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06461-7EF4-4BB4-A0D7-AA08D9DD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EFAEE-96D8-4219-ADAD-A776C3F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68C-E82A-48F9-9F6B-4AF8589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1FB02-5F11-4E66-841F-70CCAA4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AC59-9B2A-40C6-A2E3-25239F4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F8F3-91EC-47C1-87CC-F6AD5B57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4ADB1-A4B4-4B6A-A5BA-97237233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4A04D-D9D3-457B-A9D2-6A000F21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F452B-F616-4307-9894-D0BA9A5F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4364-24E2-4AD0-802D-FFB7BC40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1304-735B-461C-888A-D59FDB81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F1C3-9B6C-4283-A6B2-237BF26C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0831D-6835-41E2-ADAD-DEC2567A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B86-26EB-4D9E-B207-A600C68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CC68-400E-4F13-A6F2-A9C6CB2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1CB4F-5470-4C5F-9674-55F5B3A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83AF7-4BA1-4B21-B3D4-51194AF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82D41-BA27-4807-9FCF-0891133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2F2B-D20A-4375-BAD2-C449BD6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F586C-880A-4BF7-8C43-6F601786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402AB-EE09-48A3-9E4E-5523B6E0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22E1-A835-4BC6-B8DD-38A81E10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CBD0-5FBF-47E3-85C5-F9E377C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B6EE6-B029-4D2F-B973-D32242D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423-93DC-435D-B286-BAA29D16A7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0A08-7C4D-4BF5-9EC7-9A85F33B49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C70B-513F-402D-8CA1-5DD1C9A8CB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6D3-7836-4554-9ADF-9281CB3526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FDDD-AD72-414C-95C7-FDD01031D7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023-FC87-4E6B-9B30-4B156806CB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1B59-1CD0-4DA6-8B3F-F1BE0B7A4D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8BB2-B81D-4FBC-9196-C0E3627C2A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E56A-3207-4763-A633-CF288A63C6E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4" descr="http://lakers.topbuzz.com/gallery/d/1391-1/kobe_bryant_dunk2.jpg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Why is my hair not curly like Kobe’s hair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Why can’t I play basketball like Kobe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03:22Z</dcterms:created>
  <dc:creator>LL4</dc:creator>
  <dc:description/>
  <dc:language>en-US</dc:language>
  <cp:lastModifiedBy>LL4</cp:lastModifiedBy>
  <dcterms:modified xsi:type="dcterms:W3CDTF">2009-12-19T19:36:41Z</dcterms:modified>
  <cp:revision>10</cp:revision>
  <dc:subject/>
  <dc:title>Slide 1</dc:title>
</cp:coreProperties>
</file>